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0DE-DD88-4B49-BCA4-4FAC5B2B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0CD0-E9F5-46BF-80B1-FFE670DE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EF9-8FC4-47CE-AF1C-2CF3FD63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906-C1CA-4CD1-9C7A-6D3C4CF7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E578-7D73-467D-BACD-8E068A04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E6C1-CE2B-49AB-A458-1549184F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0B7-2068-47C2-9C06-654B898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960-72C8-4FB7-B7D8-BD74FEA7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66A-9146-44BC-ADF9-471772F3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3FD-90F7-4097-B00A-D3768891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56B-6103-4696-AEC8-2D72038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34FF-C7AB-4D30-AFF7-58414F71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FFD-E362-46C6-B7E1-483F672C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Cuántos años tien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Cómo te llama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25960" y="148428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ow old ar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0080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at’s your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2040" y="4221000"/>
            <a:ext cx="92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Dónde vive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92680" y="5300640"/>
            <a:ext cx="42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ere do you l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Qué te gus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e gusta __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21240" y="14842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What do you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00800" y="3573360"/>
            <a:ext cx="42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like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62040" y="4221000"/>
            <a:ext cx="924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e gustan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4520" y="530064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like 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07960" y="620640"/>
            <a:ext cx="873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Eres 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960" y="227664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Tienes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21240" y="148428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Are you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5120" y="3573360"/>
            <a:ext cx="48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Have you got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960" y="4581360"/>
            <a:ext cx="939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¿Sabes _________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82880" y="5589720"/>
            <a:ext cx="61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mic Sans MS"/>
              </a:rPr>
              <a:t>Do you know how to 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6:06:38Z</dcterms:created>
  <dc:creator>Helen</dc:creator>
  <dc:description/>
  <dc:language>en-US</dc:language>
  <cp:lastModifiedBy>Helen</cp:lastModifiedBy>
  <dcterms:modified xsi:type="dcterms:W3CDTF">2010-05-19T18:42:50Z</dcterms:modified>
  <cp:revision>5</cp:revision>
  <dc:subject/>
  <dc:title>Slide 1</dc:title>
</cp:coreProperties>
</file>